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5683-ABC8-4D73-BC66-BFA10BF9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DC9-F092-4133-9EDD-65EE856C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5A4-E63C-4D25-BC94-C8D8F2FC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885-780F-4F58-8F9A-521838F8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9B0-6B30-4E49-B6D4-9757759D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3FA-FC70-4030-8433-0E41D50B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7F8-843D-4266-8FCC-AA7A53E3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03F-3FF4-4807-B359-62E21EBE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416-0D0C-458D-82D5-4E255D5F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461-9FDF-42B7-8A0C-691050CF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7CC-BED0-4A62-BB1A-2A1991B6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4F8-8D09-45D1-8057-5DFEA5AE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85E2-334F-41C4-8172-ABF53C6D1F5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0840" y="668160"/>
            <a:ext cx="1000080" cy="606600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20920" y="668160"/>
            <a:ext cx="2387520" cy="6066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7000" y="668160"/>
            <a:ext cx="3409920" cy="60660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8760" y="3543480"/>
          <a:ext cx="7238880" cy="33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43480"/>
                    <a:ext cx="723888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0080" y="457200"/>
          <a:ext cx="7297560" cy="339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80" y="457200"/>
                    <a:ext cx="72975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-74160" y="1905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8040" y="505944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497520" y="342648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montañ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1210320" y="342792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de lome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82520" y="34268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p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7112160" y="365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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linación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alud en g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7230240" y="5571720"/>
            <a:ext cx="134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ND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 = Tan </a:t>
            </a: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= 1/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423920" y="1143720"/>
            <a:ext cx="959760" cy="1501200"/>
            <a:chOff x="7423920" y="1143720"/>
            <a:chExt cx="959760" cy="1501200"/>
          </a:xfrm>
        </p:grpSpPr>
        <p:sp>
          <p:nvSpPr>
            <p:cNvPr id="56" name=""/>
            <p:cNvSpPr/>
            <p:nvPr/>
          </p:nvSpPr>
          <p:spPr>
            <a:xfrm flipH="1" rot="16200000">
              <a:off x="7156800" y="1692360"/>
              <a:ext cx="1219320" cy="685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200000">
              <a:off x="7857720" y="213048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42400" y="2465280"/>
              <a:ext cx="56880" cy="381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24"/>
                  </a:moveTo>
                  <a:cubicBezTo>
                    <a:pt x="2" y="22"/>
                    <a:pt x="2" y="15"/>
                    <a:pt x="5" y="11"/>
                  </a:cubicBezTo>
                  <a:cubicBezTo>
                    <a:pt x="8" y="7"/>
                    <a:pt x="14" y="2"/>
                    <a:pt x="19" y="1"/>
                  </a:cubicBezTo>
                  <a:cubicBezTo>
                    <a:pt x="24" y="0"/>
                    <a:pt x="33" y="5"/>
                    <a:pt x="36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7634520" y="1138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6200000">
              <a:off x="8116920" y="18777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8389800" y="0"/>
          <a:ext cx="640080" cy="6858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9800" y="0"/>
                    <a:ext cx="640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617840" y="152280"/>
            <a:ext cx="49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abla 2  Clasificación topográfica en la República Mexic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0840" y="3700440"/>
            <a:ext cx="69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48320" y="3578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1:43:51Z</dcterms:created>
  <dc:creator>Alejandro Carrillo</dc:creator>
  <dc:description/>
  <dc:language>en-US</dc:language>
  <cp:lastModifiedBy>Monica Balsas</cp:lastModifiedBy>
  <dcterms:modified xsi:type="dcterms:W3CDTF">2003-03-19T20:37:34Z</dcterms:modified>
  <cp:revision>13</cp:revision>
  <dc:subject/>
  <dc:title>Presentación de PowerPoint</dc:title>
</cp:coreProperties>
</file>